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66019-F8D9-418E-ACAD-1251384E0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DBEEB-1E24-4009-84B4-0E60C334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5AC76-B14B-42CA-9C33-65AE296E9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B1C0F-D921-47EE-A437-F0B26EC25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0C1F-F266-4CFB-92C7-DE1688F2A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B6A25-8C03-43D0-BB2E-1E8B0AC9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95C80-81EE-45A3-B2A2-5CEC23D7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0263-6871-4BBC-A404-4D3D876CB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C8D0E-49DD-4B1B-B28C-FC07DF7C4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1E0A-B8EE-43AB-9A4B-6CBC6F67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1B8C-4B29-4C87-A03D-CA0D0B0DE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50B17-BDCC-4B8B-B3F6-97DC5CD27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68D0-9B88-45D7-A84C-FD5BA11F6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ECNICO EN PUERICULTURA</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84872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IL DELPERSONAL DOCENTE</a:t>
            </a:r>
            <a:br>
              <a:rPr sz="2400"/>
            </a:br>
            <a:br>
              <a:rPr sz="2400"/>
            </a:br>
            <a:r>
              <a:rPr b="0" lang="en-US" sz="2400" spc="-1" strike="noStrike">
                <a:solidFill>
                  <a:srgbClr val="000000"/>
                </a:solidFill>
                <a:latin typeface="Times New Roman"/>
              </a:rPr>
              <a:t>PROFESIONALES EN LAS AREAS DE PEDAGOGIA, EDUCACION PREESCOLAR, PSICOLOGIA INFANTIL, NUTRICION Y MEDICINA, CON VOCACION DE IMPARTIR Y COMPARTIR SUS CONOCIMIENTOS PARA FORMAR TECNICOS CAPACITADOS EN LA FORMACION INTEGRAL DEL INF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09480"/>
            <a:ext cx="792468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RUCTURA CURRICULAR</a:t>
            </a:r>
            <a:br>
              <a:rPr sz="2400"/>
            </a:br>
            <a:br>
              <a:rPr sz="2400"/>
            </a:br>
            <a:r>
              <a:rPr b="0" lang="en-US" sz="2400" spc="-1" strike="noStrike">
                <a:solidFill>
                  <a:srgbClr val="000000"/>
                </a:solidFill>
                <a:latin typeface="Times New Roman"/>
              </a:rPr>
              <a:t>EL PLAN DE ESTUDIOS ESTA DIVIDIDOEN 2 AREAS, CORRESPONDIENDO LA LLAMADA DE TRNCO COMUN Y LAS TECNOLOGICAS QUE A SU VEZ SE SUBDIVIDEN EN PEDAGOGICAS Y DE SALUD EL PLAN DE ESTUDIOS SE ENCUENTRA ORGANIZADO POR MATERIAS SERIADAS CON LA CANTIDAD DETERMINADA DE HORAS CLASE TANTO TEORICAS COMO PRACTICAS CONTANDO CON LA ASIGNACION DE CREDITOS PARA CADA U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CO COMUN</a:t>
            </a:r>
            <a:br>
              <a:rPr sz="2400"/>
            </a:br>
            <a:br>
              <a:rPr sz="2400"/>
            </a:br>
            <a:r>
              <a:rPr b="0" lang="en-US" sz="2400" spc="-1" strike="noStrike">
                <a:solidFill>
                  <a:srgbClr val="000000"/>
                </a:solidFill>
                <a:latin typeface="Times New Roman"/>
              </a:rPr>
              <a:t>MATEMATIC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QUIM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S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LLER DE LECTURA Y REDACC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GL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IOLOGI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RODUCCION A LAS CIENCIAS SOCIAL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ETODOS DE INVESTIGAC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T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STRUCTURAS SOCIOECONOMICAS DE MEXIC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ISTORIA DE MEXIC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LOSOF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6960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NOLOGICAS PEDAGOGICAS</a:t>
            </a:r>
            <a:br>
              <a:rPr sz="2400"/>
            </a:br>
            <a:br>
              <a:rPr sz="2400"/>
            </a:br>
            <a:r>
              <a:rPr b="0" lang="en-US" sz="2400" spc="-1" strike="noStrike">
                <a:solidFill>
                  <a:srgbClr val="000000"/>
                </a:solidFill>
                <a:latin typeface="Times New Roman"/>
              </a:rPr>
              <a:t>PSICOLOGIA INFANTI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IBUJ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DUCACION PREESCOLAR</a:t>
            </a:r>
            <a:r>
              <a:rPr b="0" lang="en-US" sz="2400" spc="-1" strike="noStrike">
                <a:solidFill>
                  <a:srgbClr val="000000"/>
                </a:solidFill>
                <a:latin typeface="Times New Roman"/>
              </a:rPr>
              <a:t>	</a:t>
            </a:r>
            <a:r>
              <a:rPr b="0" lang="en-US" sz="2400" spc="-1" strike="noStrike">
                <a:solidFill>
                  <a:srgbClr val="000000"/>
                </a:solidFill>
                <a:latin typeface="Times New Roman"/>
              </a:rPr>
              <a:t>LUDOLOGI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ACTICAS DE CAMP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TIVIDADES MUSICALES, TEATRO Y LITERATURA INFANTI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PEDAGOGIA Y DIDACT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RAPIA OCUPACIONAL INFANTI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NOLOGICAS DE SALUD</a:t>
            </a:r>
            <a:br>
              <a:rPr sz="2400"/>
            </a:br>
            <a:br>
              <a:rPr sz="2400"/>
            </a:br>
            <a:r>
              <a:rPr b="0" lang="en-US" sz="2400" spc="-1" strike="noStrike">
                <a:solidFill>
                  <a:srgbClr val="000000"/>
                </a:solidFill>
                <a:latin typeface="Times New Roman"/>
              </a:rPr>
              <a:t>PUERICULTUR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LUD PUBL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ATOMIA Y FISIOLOGI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UTRIC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DIATRIA CLINICA</a:t>
            </a:r>
            <a:r>
              <a:rPr b="0" lang="en-US" sz="24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TERAPIA RECREATIVA INFANTIL</a:t>
            </a:r>
            <a:br>
              <a:rPr sz="2400"/>
            </a:br>
            <a:r>
              <a:rPr b="0" lang="en-US" sz="2400" spc="-1" strike="noStrike">
                <a:solidFill>
                  <a:srgbClr val="000000"/>
                </a:solidFill>
                <a:latin typeface="Times New Roman"/>
              </a:rPr>
              <a:t>PUERICULTURA SOCIAL</a:t>
            </a:r>
            <a:br>
              <a:rPr sz="2400"/>
            </a:br>
            <a:r>
              <a:rPr b="0" lang="en-US" sz="2400" spc="-1" strike="noStrike">
                <a:solidFill>
                  <a:srgbClr val="000000"/>
                </a:solidFill>
                <a:latin typeface="Times New Roman"/>
              </a:rPr>
              <a:t>ORGANIZACIÓN Y ADMINISTRACION DE INSTITUCIONES DE ATENCION AL NI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84872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NCULACION DEL TECNICO PUERICULTISTA</a:t>
            </a:r>
            <a:br>
              <a:rPr sz="2400"/>
            </a:br>
            <a:br>
              <a:rPr sz="2400"/>
            </a:br>
            <a:r>
              <a:rPr b="0" lang="en-US" sz="2400" spc="-1" strike="noStrike">
                <a:solidFill>
                  <a:srgbClr val="000000"/>
                </a:solidFill>
                <a:latin typeface="Times New Roman"/>
              </a:rPr>
              <a:t>EL PROFESIONISTA SE RELACIONA CON EL PERSONAL MULTIDISCIPLINARIO DE LAS DIFERENTES INSTITUCIONES QUE PRESTAN ATENCION AL NIÑO COMO SON: MEDICOS, PSICOLOGOS, PEDAGOGOS, EDUCADORES, ENFERMERAS, TRABAJADORES SOCIALES, ASISTENTES EDUCATIVOS, TERAPIST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POS DE TRABAJO</a:t>
            </a:r>
            <a:br>
              <a:rPr sz="2400"/>
            </a:br>
            <a:br>
              <a:rPr sz="2400"/>
            </a:br>
            <a:r>
              <a:rPr b="0" lang="en-US" sz="2400" spc="-1" strike="noStrike">
                <a:solidFill>
                  <a:srgbClr val="000000"/>
                </a:solidFill>
                <a:latin typeface="Times New Roman"/>
              </a:rPr>
              <a:t>CENTROS DE DESARROLLO INFANTIL, JARDINE DE NIÑOS, ESTANCIAS DE BIENESTAR INFANTIL, GUARDERIAS, CASA CUNA, CASA HOGAR, ORFANATOS, HOSPITALES PEDIATRICOS, HOSPITALES MATERNO-INFANTIL, CENTROS DE REHABILITACION INFANTIL, CIRCULOS INFANTILES Y CENTROS DE ESTIMULACION INFAN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09120"/>
            <a:ext cx="79246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NCIONES</a:t>
            </a:r>
            <a:br>
              <a:rPr sz="2400"/>
            </a:br>
            <a:br>
              <a:rPr sz="2400"/>
            </a:br>
            <a:r>
              <a:rPr b="0" lang="en-US" sz="2400" spc="-1" strike="noStrike">
                <a:solidFill>
                  <a:srgbClr val="000000"/>
                </a:solidFill>
                <a:latin typeface="Times New Roman"/>
              </a:rPr>
              <a:t>DESARROLLO DE PLANES Y PROGRAMAS DE ATENCION Y PSICOPEDAGOGIA APLICANDO LAS NORMAS GENERALES DE LA EDUCACION.</a:t>
            </a:r>
            <a:br>
              <a:rPr sz="2400"/>
            </a:br>
            <a:r>
              <a:rPr b="0" lang="en-US" sz="2400" spc="-1" strike="noStrike">
                <a:solidFill>
                  <a:srgbClr val="000000"/>
                </a:solidFill>
                <a:latin typeface="Times New Roman"/>
              </a:rPr>
              <a:t>ELABORA Y APLICA PLANES Y PROGRAMAS DE ESTIMULACION EN EL DESARROLLO DEL NIÑO PARA QUE LOGRE UNA MADUREZ OPTIMA QUE LE PERMITA SATISFACER SUS NECESIDADES BASICAS.</a:t>
            </a:r>
            <a:br>
              <a:rPr sz="2400"/>
            </a:br>
            <a:r>
              <a:rPr b="0" lang="en-US" sz="2400" spc="-1" strike="noStrike">
                <a:solidFill>
                  <a:srgbClr val="000000"/>
                </a:solidFill>
                <a:latin typeface="Times New Roman"/>
              </a:rPr>
              <a:t>PROMUEVE Y FOMENTA LA SALUD MEDIANTE LA REALIZACION DE ACTIVIDADES ACORDES A LAS POLITICAS DEL SECTOR SALUD A FIN DE DISMINUIR LA INCIDENCIA DE ENFERMEDADES INFANT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84872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OSOFIA EN PUERICULTURA</a:t>
            </a:r>
            <a:br>
              <a:rPr sz="2400"/>
            </a:br>
            <a:br>
              <a:rPr sz="2400"/>
            </a:br>
            <a:r>
              <a:rPr b="0" lang="en-US" sz="2400" spc="-1" strike="noStrike">
                <a:solidFill>
                  <a:srgbClr val="000000"/>
                </a:solidFill>
                <a:latin typeface="Times New Roman"/>
              </a:rPr>
              <a:t>EL FUTURO DEL PAIS RADICA EN LA NIÑEZ POR ELLO ES IMPORTANTE ATENDER A TIEMPO LOS PROBLEMAS RELACIONADOS CON EL DESARROLLO Y EDUCACION DE LOS NIÑOS DESDE LAS ETAPAS TEMPRANAS Y ASI LOGRAR UN DESARROLLO INTEG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10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ESIONAL QUE CONOCE TODOS LOS ASPECTOS BIOLOGICOS , PSICOLOGICOS Y SOCIALES QUE INFLUYEN EN EL DESARROLLO INTEGRAL DEL NIÑO, ESTE CONOCIMIENTO ABARCA 5 ETAPAS QUE 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228600"/>
            <a:ext cx="792468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PRECONCEPCIONAL</a:t>
            </a:r>
            <a:br>
              <a:rPr sz="2400"/>
            </a:br>
            <a:br>
              <a:rPr sz="2400"/>
            </a:br>
            <a:r>
              <a:rPr b="0" lang="en-US" sz="2400" spc="-1" strike="noStrike">
                <a:solidFill>
                  <a:srgbClr val="000000"/>
                </a:solidFill>
                <a:latin typeface="Times New Roman"/>
              </a:rPr>
              <a:t>ESTUDIA LAS CARACTERISTICAS Y CUIDADOS DE SALUD DE LOS FUTUROS PADRES COMO: HERENCIA, SALUD REPRODUCTIVA, PLANIFICACION FAMILIAR,EDUCACION SEXUAL, PATERNIDAD Y MATERNIDAD RESPONSABLE, FAMILIA,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1066680"/>
            <a:ext cx="762012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CONCEPCIONAL</a:t>
            </a:r>
            <a:br>
              <a:rPr sz="3600"/>
            </a:br>
            <a:br>
              <a:rPr sz="3600"/>
            </a:br>
            <a:r>
              <a:rPr b="0" lang="en-US" sz="2400" spc="-1" strike="noStrike">
                <a:solidFill>
                  <a:srgbClr val="000000"/>
                </a:solidFill>
                <a:latin typeface="Times New Roman"/>
              </a:rPr>
              <a:t>ESTUDIA LOS FENOMENOS BIOLOGICOS QUE SUCEDEN EN LA UNION DEL OVULO CON EL ESPERMATOZOIDE COMO: ANATOMIA Y FISIOLOGIA DE LOS APARATOS REPRODUCTORES MASCULINO Y FEMENINO, ASI COMO EL PROCESO DE FECUND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1760" y="1143000"/>
            <a:ext cx="784836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PRENATAL</a:t>
            </a:r>
            <a:br>
              <a:rPr sz="3600"/>
            </a:br>
            <a:br>
              <a:rPr sz="2400"/>
            </a:br>
            <a:br>
              <a:rPr sz="2400"/>
            </a:br>
            <a:r>
              <a:rPr b="0" lang="en-US" sz="2400" spc="-1" strike="noStrike">
                <a:solidFill>
                  <a:srgbClr val="000000"/>
                </a:solidFill>
                <a:latin typeface="Times New Roman"/>
              </a:rPr>
              <a:t>ESTUDIA LOS CAMBIOS QUE OCURREN EN EL ORGANISMO MATERNO EN EL PROCESO DEL DESARROLLO DEL PRODUCTO DURANTE EL EMBARAZO</a:t>
            </a:r>
            <a:br>
              <a:rPr sz="36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NATAL</a:t>
            </a:r>
            <a:br>
              <a:rPr sz="3600"/>
            </a:br>
            <a:br>
              <a:rPr sz="3600"/>
            </a:br>
            <a:r>
              <a:rPr b="0" lang="en-US" sz="2400" spc="-1" strike="noStrike">
                <a:solidFill>
                  <a:srgbClr val="000000"/>
                </a:solidFill>
                <a:latin typeface="Times New Roman"/>
              </a:rPr>
              <a:t>ESTUDIA TODOS LOS PROCESOS QUE OCURREN DURANTE EL PARTO Y PUERPERIO</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POSNATAL</a:t>
            </a:r>
            <a:br>
              <a:rPr sz="3600"/>
            </a:br>
            <a:br>
              <a:rPr sz="3600"/>
            </a:br>
            <a:r>
              <a:rPr b="0" lang="en-US" sz="2400" spc="-1" strike="noStrike">
                <a:solidFill>
                  <a:srgbClr val="000000"/>
                </a:solidFill>
                <a:latin typeface="Times New Roman"/>
              </a:rPr>
              <a:t>ESTUDIA TODOS LOS CAMBIOS FISICOS, PSICOLOGICOS Y SOCIALES DESDE LA ETAPA NEONATAL HASTA LA ADOLESC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ÁTICA DE LA CARRERA</a:t>
            </a:r>
            <a:br>
              <a:rPr sz="2400"/>
            </a:br>
            <a:br>
              <a:rPr sz="2400"/>
            </a:br>
            <a:r>
              <a:rPr b="0" lang="en-US" sz="2400" spc="-1" strike="noStrike">
                <a:solidFill>
                  <a:srgbClr val="000000"/>
                </a:solidFill>
                <a:latin typeface="Times New Roman"/>
              </a:rPr>
              <a:t>POR SER UNA CARRERA RELATIVAMENTE NUEVA Y DESCONOCIDA PARA MUCHOS, LOS CAMPOS DE ACCION SON LIMITADOS Y MINIMIZADOS, POR ELLO EN QUERETARO SE REQUIERE QUE ELSECTOR SALUD ASIMILE EN SUS INSTITUCIONES A NUESTRAS EGRESADAS EN LAS DIVERSAS AREAS DONDE ELLASPUEDAN LABORAR YA QUE HAY UN DESPERDICIO DE RECURSOS HUMANOS CAPACITADOS TANTO EN EL SECTOR SALUD COMO EN EL EDUCA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84872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TIVO GENERAL DE LA CARRERA</a:t>
            </a:r>
            <a:br>
              <a:rPr sz="2400"/>
            </a:br>
            <a:br>
              <a:rPr sz="2400"/>
            </a:br>
            <a:r>
              <a:rPr b="0" lang="en-US" sz="2400" spc="-1" strike="noStrike">
                <a:solidFill>
                  <a:srgbClr val="000000"/>
                </a:solidFill>
                <a:latin typeface="Times New Roman"/>
              </a:rPr>
              <a:t>LA CARRERA DE PUERICULTURA DEL BACHILLERATO TECNOLOGICO EN EL NIVEL MEDIO SUPERIOR TIENE COMO OBJETIVO FORMAR TECNICOS QUE CUENTEN CON UNA PREPARACION PROPEDEUTICA QUE LES PERMITA CONTINUAR ESTUDIOS A NIVEL LICENCIATURA EN EL AREA QUIMICO-BIOLOG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22:54:03Z</dcterms:created>
  <dc:creator>B.SILVIA TORRES GUERRERO</dc:creator>
  <dc:description/>
  <dc:language>en-US</dc:language>
  <cp:lastModifiedBy>B.SILVIA TORRES GUERRERO</cp:lastModifiedBy>
  <dcterms:modified xsi:type="dcterms:W3CDTF">2007-02-01T03:12:32Z</dcterms:modified>
  <cp:revision>2</cp:revision>
  <dc:subject/>
  <dc:title>TECNICO EN PUERICULTURA</dc:title>
</cp:coreProperties>
</file>